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EE60-BF13-4AE3-AC2F-B9BC2FFA0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4CDC-0338-4D97-9CB0-E08074AAB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3400" y="5936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EB2A2-E829-44F3-961C-657D29E87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163A5-F859-4BB3-80DB-4FBCB2272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7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7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A37D5-C4BF-4CFB-80EC-035AA91F7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33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57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33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57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7B9A9-D6E6-457B-9297-6EACB355D1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DF73F-006C-4081-A474-7D3485A577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79B8F-6B8C-41E7-A12D-1D98E200B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7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31302-D8F0-47BD-A992-62D25ECF2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4D002-CD73-4A83-877F-E01FFC5D4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0CC36-22AA-45FE-8B1D-F2BC7F502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7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D8F3-5316-4BD5-B72C-2EDE7B9FD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7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7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91CD0-2563-4278-9374-4D3C1A6F6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7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D5BC6-C7A6-4C93-822E-6E09B4B4E9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AD7C-EFDE-4466-B796-7CCA38163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ison f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523880"/>
            <a:ext cx="2438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e chateau de Harrison ford. Il est gr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0" descr="http://hookedonhouses.net/wp-content/uploads/2011/09/Harrison-Ford-Calista-Flockhart-buy-new-house-in-LA.jpg"/>
          <p:cNvPicPr/>
          <p:nvPr/>
        </p:nvPicPr>
        <p:blipFill>
          <a:blip r:embed="rId1"/>
          <a:stretch/>
        </p:blipFill>
        <p:spPr>
          <a:xfrm>
            <a:off x="2895480" y="2590920"/>
            <a:ext cx="6023160" cy="4038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4" descr="http://images.askmen.com/celebs/men/entertainment/30_harrison_fordlarge_image-1.jpg"/>
          <p:cNvPicPr/>
          <p:nvPr/>
        </p:nvPicPr>
        <p:blipFill>
          <a:blip r:embed="rId2"/>
          <a:stretch/>
        </p:blipFill>
        <p:spPr>
          <a:xfrm>
            <a:off x="6705720" y="609480"/>
            <a:ext cx="1388880" cy="17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ing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1676520"/>
            <a:ext cx="190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a salle de sejour. Il a une piano bel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hookedonhouses.net/wp-content/uploads/2011/09/Harrison-Ford-LA-house-piano.jpg"/>
          <p:cNvPicPr/>
          <p:nvPr/>
        </p:nvPicPr>
        <p:blipFill>
          <a:blip r:embed="rId1"/>
          <a:stretch/>
        </p:blipFill>
        <p:spPr>
          <a:xfrm>
            <a:off x="2895480" y="1905120"/>
            <a:ext cx="6248520" cy="388620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5"/>
          <p:cNvCxnSpPr/>
          <p:nvPr/>
        </p:nvCxnSpPr>
        <p:spPr>
          <a:xfrm>
            <a:off x="6705720" y="3581280"/>
            <a:ext cx="1372320" cy="5342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tc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520" y="152388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a cuisine. elle est lumier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hookedonhouses.net/wp-content/uploads/2011/09/Harrison-Ford-LA-house-kitchen.jpg"/>
          <p:cNvPicPr/>
          <p:nvPr/>
        </p:nvPicPr>
        <p:blipFill>
          <a:blip r:embed="rId1"/>
          <a:stretch/>
        </p:blipFill>
        <p:spPr>
          <a:xfrm>
            <a:off x="4267080" y="2362320"/>
            <a:ext cx="4876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hamber a’ cou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0880" y="1523520"/>
            <a:ext cx="3733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a chamber a’ coucher. Il y a la terrese b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hookedonhouses.net/wp-content/uploads/2011/09/Harrison-Ford-Calista-Flockhard-master-bedrm.jpg"/>
          <p:cNvPicPr/>
          <p:nvPr/>
        </p:nvPicPr>
        <p:blipFill>
          <a:blip r:embed="rId1"/>
          <a:stretch/>
        </p:blipFill>
        <p:spPr>
          <a:xfrm>
            <a:off x="3962520" y="3098880"/>
            <a:ext cx="51814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h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240" y="2743200"/>
            <a:ext cx="2133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a salle de bain. Regarde la bain gr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://hookedonhouses.net/wp-content/uploads/2011/09/white-bathroom-zebra-print-chairs.jpg"/>
          <p:cNvPicPr/>
          <p:nvPr/>
        </p:nvPicPr>
        <p:blipFill>
          <a:blip r:embed="rId1"/>
          <a:stretch/>
        </p:blipFill>
        <p:spPr>
          <a:xfrm>
            <a:off x="2362320" y="1798560"/>
            <a:ext cx="678168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er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560" y="1371600"/>
            <a:ext cx="281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a terrase. Regarde les une meu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hookedonhouses.net/wp-content/uploads/2011/09/back-covered-porch.jpg"/>
          <p:cNvPicPr/>
          <p:nvPr/>
        </p:nvPicPr>
        <p:blipFill>
          <a:blip r:embed="rId1"/>
          <a:stretch/>
        </p:blipFill>
        <p:spPr>
          <a:xfrm>
            <a:off x="3505320" y="2362320"/>
            <a:ext cx="5257800" cy="3800520"/>
          </a:xfrm>
          <a:prstGeom prst="rect">
            <a:avLst/>
          </a:prstGeom>
          <a:ln w="0">
            <a:noFill/>
          </a:ln>
        </p:spPr>
      </p:pic>
      <p:cxnSp>
        <p:nvCxnSpPr>
          <p:cNvPr id="67" name="Straight Arrow Connector 5"/>
          <p:cNvCxnSpPr/>
          <p:nvPr/>
        </p:nvCxnSpPr>
        <p:spPr>
          <a:xfrm flipH="1">
            <a:off x="4876200" y="3732840"/>
            <a:ext cx="1600920" cy="991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" name="Straight Arrow Connector 7"/>
          <p:cNvCxnSpPr/>
          <p:nvPr/>
        </p:nvCxnSpPr>
        <p:spPr>
          <a:xfrm>
            <a:off x="6476760" y="3733920"/>
            <a:ext cx="1524600" cy="13723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y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560" y="1523520"/>
            <a:ext cx="3276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le jardin. Regarde le pisene gr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hookedonhouses.net/wp-content/uploads/2011/09/Harrison-Ford-Calista-Flockhard-LA-house-back-pool.jpg"/>
          <p:cNvPicPr/>
          <p:nvPr/>
        </p:nvPicPr>
        <p:blipFill>
          <a:blip r:embed="rId1"/>
          <a:stretch/>
        </p:blipFill>
        <p:spPr>
          <a:xfrm>
            <a:off x="3505320" y="2819520"/>
            <a:ext cx="5257800" cy="3762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72" name="Straight Arrow Connector 5"/>
          <p:cNvCxnSpPr/>
          <p:nvPr/>
        </p:nvCxnSpPr>
        <p:spPr>
          <a:xfrm flipH="1">
            <a:off x="4419360" y="4799520"/>
            <a:ext cx="1676880" cy="7628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i pour le regarder! even though you had no choice.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2120" y="4952880"/>
            <a:ext cx="7696080" cy="10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Documents and Settings\susan.lowd\Local Settings\Temporary Internet Files\Content.IE5\UVZ6II3H\MC900233403[1].wmf"/>
          <p:cNvPicPr/>
          <p:nvPr/>
        </p:nvPicPr>
        <p:blipFill>
          <a:blip r:embed="rId1"/>
          <a:stretch/>
        </p:blipFill>
        <p:spPr>
          <a:xfrm>
            <a:off x="2438280" y="1600200"/>
            <a:ext cx="419112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5:33:27Z</dcterms:created>
  <dc:creator>TMOIT</dc:creator>
  <dc:description/>
  <dc:language>en-US</dc:language>
  <cp:lastModifiedBy>TMOIT</cp:lastModifiedBy>
  <dcterms:modified xsi:type="dcterms:W3CDTF">2011-11-17T01:40:32Z</dcterms:modified>
  <cp:revision>18</cp:revision>
  <dc:subject/>
  <dc:title>Slide 1</dc:title>
</cp:coreProperties>
</file>